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Times New Roman"/>
            </a:endParaRPr>
          </a:p>
        </p:txBody>
      </p:sp>
      <p:sp>
        <p:nvSpPr>
          <p:cNvPr id="37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B79E-AC37-4EC3-8E27-6B12116E4C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8870-B6F2-4A64-B121-557DFC43E7B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4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ormativ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progress is measured through multiple methods of formative evaluation intentionally designed to magnify student needs and to shape future lessons. Feedback given (as part of formative assessment) helps learners become aware of gaps between their desired goals and their current knowledge, understanding, or skill. Feedback leads students to the actions necessary to achieve their learning goals. Formative assessment through self-evaluation helps students monitor their own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7397-2600-4BF5-AC57-EDFE93EDF5E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7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unit—stag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does that look like? (sample GRASPS—how does this align with stage one ; then what data will I need when beginning sequence of teaching and learning (stage 3)  how will I use this data?  How will I scaffold formative assessments to provide me with pulse checks and students with opportunities to reflect and refine prior to the summative assessment. </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C986-8B00-4410-A3E0-E3509603A7B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8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share out their brainstorming for pre and formative assessment for the English 9Honors GRASPS/Stage One—copy of unit and performance task should be in the packet of module materials provided to teacher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BD13-558E-4F23-8320-F76196DA5B6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8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my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ing like an assessor in your own content begin b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stage one for uni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best performance/summative task to assess student </a:t>
            </a:r>
            <a:r>
              <a:rPr b="0" i="1" lang="en-US" sz="1200" spc="-1" strike="noStrike">
                <a:solidFill>
                  <a:srgbClr val="000000"/>
                </a:solidFill>
                <a:latin typeface="Calibri"/>
              </a:rPr>
              <a:t>understanding</a:t>
            </a:r>
            <a:r>
              <a:rPr b="0" lang="en-US" sz="1200" spc="-1" strike="noStrike">
                <a:solidFill>
                  <a:srgbClr val="000000"/>
                </a:solidFill>
                <a:latin typeface="Calibri"/>
              </a:rPr>
              <a:t> and ability to transfer unit knowledge and skill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e data you will need at the beginning of the unit to best differentiate instructional deliver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lan to align formative assessment with  summative pie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E988-273C-44EE-BFA8-13AA343D79F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
        <p:nvSpPr>
          <p:cNvPr id="49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3621-56F0-4383-B0CD-D5AB00E7D08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
        <p:nvSpPr>
          <p:cNvPr id="49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BF8F-348E-47A2-8E01-0788F7405B5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quote (springboard for discussion): “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
        <p:nvSpPr>
          <p:cNvPr id="44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C31D-8E2A-4BA2-9439-737716DCE1C0}"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o session goal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C453-DB32-45DC-A9DE-9EE12759071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5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mparison to UbD stage 1 development….</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4551-3CC1-480D-B3CD-1EE25FB28D2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Before designing a test or task, consider the general types of performances that are implied.  E.G. – for example – regardless of the content, understanding is often revealed through comparing and contrasting or summarizing important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 This is where criteria, rubrics, and examplars will come into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 does the evidence align with our learning goals from stage 1 and are the results sufficiently unambiguou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D07E-6320-4224-BF9A-E2AB15327D3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6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3B27-9A9C-4B75-B5F0-228D53A3792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6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ummative Performance Tasks</a:t>
            </a:r>
            <a:endParaRPr b="0" lang="en-US" sz="1200" spc="-1" strike="noStrike">
              <a:solidFill>
                <a:srgbClr val="000000"/>
              </a:solidFill>
              <a:latin typeface="Calibri"/>
            </a:endParaRPr>
          </a:p>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t should be logically inferred from our desired results—results that should be evidenced through the summative assessment. Thinking about the assessment as evidence of unit mastery helps teachers design a map that uses preassessment to diagnose and formative assessment to adjust learning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 designed summative performance task, in addition to traditional evaluation of content knowledge, students demonstrate their understanding of content relevance and their ability to transfer and apply what they have learned.  Strong performance tasks assess content objectives and desired skills outlined in stage one.  </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1EA9-334E-4AB1-95E0-1F54003970C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6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re-Assessment</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summative assessment , teachers should choose a preassessment tool  for crafting a learning plan that will  challenge gifted learners to work to their potential.  Students are afforded opportunity to demonstrate prior knowledge, interests, or learning style.  This information helps teachers maximize time by guiding instruction and focusing on student needs. From module: The essential motivation for using preassessments is to increase the likelihood of student success by matching the student’s instructional needs with instructional strategies. Effective preassessments help build  a road map from a student’s current level of achievement to the content and skills needed to meet a specific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7FEA-3947-4FBD-AEE0-A0F359211A2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7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Gifted Education</a:t>
            </a:r>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2B41D-F9D9-4754-A210-5DE23ADC9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09F0-3628-4974-9A5C-537B0BB0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AD5AB-326C-4331-8C53-42156E343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7B000-D009-4096-AB72-F6E927144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C383F-FE10-4BAF-AA62-ED7A9C2B2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9E238-B645-4944-938D-6C3B21263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E5A5B-8077-46E3-AE20-F1C2D61D1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035E5-B63F-442C-9355-836B0C8BA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BF862-8332-4538-9FA8-F45FE1B33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6B5F8-8987-47A0-BE5F-43EE4AAB1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3F66D-DCFD-42C9-8E51-305BB3BCE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91A9-04F8-4A8D-8F6B-668F67468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7BEC8-EB08-4194-AA57-3572D3C42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0811E-A48F-45DE-9734-03EA71C75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A40CB-F2B1-45C1-B294-64C556DC2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D77F1-6F34-4DE5-84BE-04FD44BA0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D1713-9386-42A5-808C-1BF617D3E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A362F1-2A92-45B5-AD2D-51685D8061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8DEF0-9FF8-435A-838C-C1DC6BCC9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445B2-4E21-4252-9E8F-5167F7A2B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CE167-D126-4A62-B911-185F95805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CB5BE-52FB-4DEE-B279-85B8066ED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27E5-61A6-4DAC-AA64-29A5F42D9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5654F-5027-4B24-9E5E-B47BD8626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32AB1-A774-4688-AC8C-97C2EF70D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EC91D-41C8-4904-B85B-8CA745F95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E399E-E96B-4435-8451-56A2599EA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530CB3-AE2C-49F0-8AC1-25420A005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AADD3D-4DE1-47AE-998B-47CE3493C8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37487-6FA1-4DB9-8AC0-340893CDF4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4234D6-55D8-44ED-AAE1-C5A1A9E412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EDB53-BD99-4A2F-A3AD-1A69A2E26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201DD-F0A7-4BAC-A6FA-ADFB65DC3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717FB-77E0-486E-8878-2D5678A0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323F6-3F25-42EF-AB16-446FD520EF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E6DCE-76B0-4140-A5A2-A99FBA1E4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F98B0-508B-4F23-A27C-322226DAF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ACB0B-51C0-44DC-9928-61EB429CE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42FE4-C574-40DB-AC25-09F42C39F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A8FAE-A714-4039-BCA6-D03403551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B7C9A-737B-4F86-8409-07C9994DE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D933D-E923-40CA-97E5-31C9A41C5B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FDA4AF-F5A0-4F19-ABE2-F25DE1125D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DB995B-C8B1-4807-94DC-57B483008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AB95-49C5-4537-B4F0-9851E05D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02154-598A-4923-BFBD-E96C609FFE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BDFB5B-1760-4801-A3BA-BFEF194F6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03BCFC-9215-4998-A69F-71C1E7F44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61D51-1078-444A-A8CA-05C0B9554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B8977-6C71-4D86-8EE2-279802411E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0057C-78DC-4A56-B983-C9CAF9142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6A06D-9EC5-4B74-BD53-91F047C526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2F5E9-8850-4D61-B372-17D78B6EE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CBD23-FD38-490C-9082-A9D4079AC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864F78-A417-40F3-B3B9-1FB0AAA01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4ECD-0220-4BF1-8421-49A945FC5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920E94-8676-4865-A63C-61343D80B4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849032-5D9F-4D83-B1C5-925D151BBD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A17056-16CC-4B11-BEAA-75A9D1293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7A122-9527-4BE7-A16A-5C993F091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C9B44-5A1D-4344-A23E-C28268DA74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ECE65D-3326-41B8-B80D-956306B52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AF5BE0-0520-40DA-8182-4D5A1B567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1FFBC-F000-408B-9324-7715F132D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192D0-EAE8-4F3D-AD02-23B7CB60E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C7851-1705-4122-9EF1-6BAA55CFC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D3A5-3934-41F9-9EDD-F1A39CFED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1EC44-D6C6-4899-9EE0-574C49467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082DCF-1042-45E2-A31E-9F5254C98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338758-47AA-4AAA-9172-2ADFA0360F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4037A3-3544-4E6B-ACCC-04C9818FC8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08192-4D77-447B-82D5-45BD7EAAF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1D9BD-186D-4A4B-BAA3-39C598080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1F73F-8C13-4D59-B6FD-5F50FA230B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1BD66-8B79-44E5-B5CE-D391F1175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0332A5-BCB0-466C-AE53-848C1FF11F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EF5B2-393A-485E-BEA2-65CE802DF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6EE9-7736-42E9-9F45-4072C023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BA067-A4A6-4ECC-B3FB-7786CD9D4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00D9A-794A-47F0-8322-98EBD4C03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B30976-AE0F-4A5D-B95C-21C25E9B6E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77D3F7-223F-4FB5-AB22-91933A0317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91F6A5-1DCF-4EA9-A87E-A006BF64EF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84E5DF-A195-495B-AF81-BF94DB38FB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89485-DCAD-424D-B075-03FAF0223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4AEF8-8196-4451-8240-CE2E9532D0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9D5D6B-73B3-475A-BAC7-87A63B317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0FCCD-306A-421C-A16A-D8B7B8CE70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EADD-7EFE-4CF8-90D6-61011908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249407-8665-4CE6-A8CC-C68408F9C3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C4D17B-A572-4A79-BABA-967C0B003E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87B58-EFC7-4BE7-BE89-156483A62D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43188-A802-44B1-B088-7AB668385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4435E-0833-4AFF-B43E-3B5F07E1F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79703-6990-4B56-98C3-80A59C9672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12E163-3E4B-414E-919B-EBF9BA82BDD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8E4E-3962-47D9-8380-E5ACC1642D80}"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B6A2-077A-431E-9E3E-800E909159D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C8AE-6881-4A64-986D-D674A839C488}"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4B4E-BEAA-4F84-AEFC-6FFDB2BB182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978E-055B-4BCA-B17F-DF28A1926953}"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3B4C-3A1C-4677-963E-0DECA438F0D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FB36-1D6D-43A9-8EE4-0EE7C51BD38A}"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598D-F941-42F2-A7E2-C8723EC8C3B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71D0-4069-49DE-9128-27D7B92527B6}"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50EA-D5C5-4B89-9BCA-6BCA2A7AFA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6B1A-07C7-4D8E-A43D-78BFAFCDE7C3}"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60DC-62A9-4083-AEF8-30460810920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7FDD-A0F2-45CC-9A4E-B9F493E6F385}"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Office of Gifted Education</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2A76-48EF-4747-B2AC-00C01169628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2010 Office of Gifted Education Virginia Beach City Public Schools</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22B6-EDC9-46F3-B1AC-9D4DDAD5703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1676160"/>
            <a:ext cx="7712280" cy="147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alanced Assessment:</a:t>
            </a:r>
            <a:br>
              <a:rPr sz="4300"/>
            </a:br>
            <a:r>
              <a:rPr b="0" lang="en-US" sz="4300" spc="-1" strike="noStrike">
                <a:solidFill>
                  <a:srgbClr val="572314"/>
                </a:solidFill>
                <a:latin typeface="Gill Sans MT"/>
              </a:rPr>
              <a:t>A Gifted Learner Support System</a:t>
            </a:r>
            <a:endParaRPr b="0" lang="en-US" sz="4300" spc="-1" strike="noStrike">
              <a:solidFill>
                <a:srgbClr val="572314"/>
              </a:solidFill>
              <a:latin typeface="Gill Sans MT"/>
            </a:endParaRPr>
          </a:p>
        </p:txBody>
      </p:sp>
      <p:sp>
        <p:nvSpPr>
          <p:cNvPr id="374" name="PlaceHolder 2"/>
          <p:cNvSpPr>
            <a:spLocks noGrp="1"/>
          </p:cNvSpPr>
          <p:nvPr>
            <p:ph type="subTitle"/>
          </p:nvPr>
        </p:nvSpPr>
        <p:spPr>
          <a:xfrm>
            <a:off x="1066680" y="5105520"/>
            <a:ext cx="7407360" cy="175248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reated by:</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Allison Graves</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Kay Shows-Roberson</a:t>
            </a: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Angela Boubouheropoulo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lIns="90000" rIns="90000" tIns="46800" bIns="46800" anchor="t">
            <a:normAutofit fontScale="89000"/>
          </a:bodyPr>
          <a:p>
            <a:pPr lvl="1" marL="569160" indent="-21024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does formative assessment inform instruction and provide students reflective opportunities about their own learning?</a:t>
            </a:r>
            <a:endParaRPr b="0" lang="en-US" sz="3200" spc="-1" strike="noStrike">
              <a:solidFill>
                <a:srgbClr val="000000"/>
              </a:solidFill>
              <a:latin typeface="Gill Sans MT"/>
            </a:endParaRPr>
          </a:p>
          <a:p>
            <a:pPr marL="324720" indent="-2512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mportant considerations:</a:t>
            </a:r>
            <a:endParaRPr b="0" lang="en-US" sz="32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riety</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edback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ignment </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lf-evaluation</a:t>
            </a:r>
            <a:endParaRPr b="0" lang="en-US" sz="2800" spc="-1" strike="noStrike">
              <a:solidFill>
                <a:srgbClr val="000000"/>
              </a:solidFill>
              <a:latin typeface="Gill Sans MT"/>
            </a:endParaRPr>
          </a:p>
          <a:p>
            <a:pPr lvl="3" marL="975960" indent="-154080">
              <a:lnSpc>
                <a:spcPct val="90000"/>
              </a:lnSpc>
              <a:spcBef>
                <a:spcPts val="7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329D-234A-41FD-BE3F-C26FA8757285}"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12" name="Footer Placeholder 4"/>
          <p:cNvSpPr/>
          <p:nvPr/>
        </p:nvSpPr>
        <p:spPr>
          <a:xfrm>
            <a:off x="35812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o What?</a:t>
            </a:r>
            <a:endParaRPr b="0" lang="en-US" sz="4300" spc="-1" strike="noStrike">
              <a:solidFill>
                <a:srgbClr val="572314"/>
              </a:solidFill>
              <a:latin typeface="Gill Sans MT"/>
            </a:endParaRPr>
          </a:p>
        </p:txBody>
      </p:sp>
      <p:sp>
        <p:nvSpPr>
          <p:cNvPr id="414" name=""/>
          <p:cNvSpPr txBox="1"/>
          <p:nvPr/>
        </p:nvSpPr>
        <p:spPr>
          <a:xfrm>
            <a:off x="1294920" y="1218960"/>
            <a:ext cx="7497720" cy="5638680"/>
          </a:xfrm>
          <a:prstGeom prst="rect">
            <a:avLst/>
          </a:prstGeom>
          <a:noFill/>
          <a:ln w="0">
            <a:noFill/>
          </a:ln>
        </p:spPr>
        <p:txBody>
          <a:bodyPr lIns="90000" rIns="90000" tIns="46800" bIns="46800"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s consider a stage one like an assessor</a:t>
            </a:r>
            <a:endParaRPr b="0" lang="en-US" sz="3200" spc="-1" strike="noStrike">
              <a:solidFill>
                <a:srgbClr val="000000"/>
              </a:solidFill>
              <a:latin typeface="Gill Sans MT"/>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preassessment data will you need for this unit?</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 use the data?</a:t>
            </a: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formative assessments will provide you and the students with the feedback needed prior to summative performance?</a:t>
            </a:r>
            <a:endParaRPr b="0" lang="en-US" sz="32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will your formative assessments complement the summative performance task to come?</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w can the formative assessment provide both descriptive feedback and the opportunity for student reflection?</a:t>
            </a:r>
            <a:endParaRPr b="0" lang="en-US" sz="2000" spc="-1" strike="noStrike">
              <a:solidFill>
                <a:srgbClr val="000000"/>
              </a:solidFill>
              <a:latin typeface="Gill Sans MT"/>
            </a:endParaRPr>
          </a:p>
          <a:p>
            <a:pPr lvl="4" marL="1193040" indent="-167760">
              <a:lnSpc>
                <a:spcPct val="90000"/>
              </a:lnSpc>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1424-5CB0-429A-B82F-3BEE17BF8010}"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16" name="Footer Placeholder 4"/>
          <p:cNvSpPr/>
          <p:nvPr/>
        </p:nvSpPr>
        <p:spPr>
          <a:xfrm>
            <a:off x="34290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Diagram 6" descr=""/>
          <p:cNvPicPr/>
          <p:nvPr/>
        </p:nvPicPr>
        <p:blipFill>
          <a:blip r:embed="rId1"/>
          <a:stretch/>
        </p:blipFill>
        <p:spPr>
          <a:xfrm>
            <a:off x="-542880" y="835200"/>
            <a:ext cx="10534680" cy="6029280"/>
          </a:xfrm>
          <a:prstGeom prst="rect">
            <a:avLst/>
          </a:prstGeom>
          <a:ln w="0">
            <a:noFill/>
          </a:ln>
        </p:spPr>
      </p:pic>
      <p:sp>
        <p:nvSpPr>
          <p:cNvPr id="41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utting the Pieces Together</a:t>
            </a:r>
            <a:endParaRPr b="0" lang="en-US" sz="2800" spc="-1" strike="noStrike">
              <a:solidFill>
                <a:srgbClr val="000000"/>
              </a:solidFill>
              <a:latin typeface="Gill Sans MT"/>
            </a:endParaRPr>
          </a:p>
        </p:txBody>
      </p:sp>
      <p:sp>
        <p:nvSpPr>
          <p:cNvPr id="4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B9E3-4027-4E51-A7FD-3108F21C8A74}"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20" name="Footer Placeholder 4"/>
          <p:cNvSpPr/>
          <p:nvPr/>
        </p:nvSpPr>
        <p:spPr>
          <a:xfrm>
            <a:off x="320040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w What? </a:t>
            </a:r>
            <a:endParaRPr b="0" lang="en-US" sz="4300" spc="-1" strike="noStrike">
              <a:solidFill>
                <a:srgbClr val="572314"/>
              </a:solidFill>
              <a:latin typeface="Gill Sans MT"/>
            </a:endParaRPr>
          </a:p>
        </p:txBody>
      </p:sp>
      <p:sp>
        <p:nvSpPr>
          <p:cNvPr id="422" name=""/>
          <p:cNvSpPr txBox="1"/>
          <p:nvPr/>
        </p:nvSpPr>
        <p:spPr>
          <a:xfrm>
            <a:off x="1066320" y="2057040"/>
            <a:ext cx="8077320" cy="480060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tent Exploration: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 design and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view stage on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sider your summative performance piece</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Outline the data you will need at the beginning of the unit.</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hat formative assessment tools can provide opportunities for assessor feedback and student reflection?</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63AC-68FA-40CA-BF61-24F51BB2FAD5}"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24"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27432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Return to Balanced Assessment Inventory</a:t>
            </a:r>
            <a:endParaRPr b="0" lang="en-US" sz="32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st-Session Refle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flect on perspec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emplate the big ideas of modu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lf-Asse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t a SMART goal</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3E72-494F-4D88-AFEB-D66E3F0F1696}"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28"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inal Thought</a:t>
            </a:r>
            <a:endParaRPr b="0" lang="en-US" sz="43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Our success in teaching for understanding depends on our design skills—our ability to design assessments that naturally raise questions and new ideas instead of telling students what we know, and assuming that they understand.”</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Jay McTighe and  Grant Wiggins</a:t>
            </a:r>
            <a:endParaRPr b="0" lang="en-US" sz="2800" spc="-1" strike="noStrike">
              <a:solidFill>
                <a:srgbClr val="000000"/>
              </a:solidFill>
              <a:latin typeface="Gill Sans MT"/>
            </a:endParaRPr>
          </a:p>
        </p:txBody>
      </p:sp>
      <p:sp>
        <p:nvSpPr>
          <p:cNvPr id="4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a:t>
            </a:r>
            <a:endParaRPr b="0" lang="en-US" sz="1200" spc="-1" strike="noStrike">
              <a:solidFill>
                <a:srgbClr val="000000"/>
              </a:solidFill>
              <a:latin typeface="Gill Sans MT"/>
            </a:endParaRPr>
          </a:p>
        </p:txBody>
      </p:sp>
      <p:sp>
        <p:nvSpPr>
          <p:cNvPr id="4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D739-9725-4B8B-964D-3AF43994BF69}"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 Consulted</a:t>
            </a:r>
            <a:endParaRPr b="0" lang="en-US" sz="43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ggins, G. and McTighe, J. (2011). </a:t>
            </a:r>
            <a:r>
              <a:rPr b="0" lang="en-US" sz="2600" spc="-1" strike="noStrike" u="sng">
                <a:solidFill>
                  <a:srgbClr val="000000"/>
                </a:solidFill>
                <a:uFillTx/>
                <a:latin typeface="Gill Sans MT"/>
              </a:rPr>
              <a:t>The Understanding by Design Guide to Creating High Quality Units</a:t>
            </a:r>
            <a:r>
              <a:rPr b="1" lang="en-US" sz="2600" spc="-1" strike="noStrike">
                <a:solidFill>
                  <a:srgbClr val="000000"/>
                </a:solidFill>
                <a:latin typeface="Gill Sans MT"/>
              </a:rPr>
              <a:t>. </a:t>
            </a:r>
            <a:r>
              <a:rPr b="0" lang="en-US" sz="2600" spc="-1" strike="noStrike">
                <a:solidFill>
                  <a:srgbClr val="000000"/>
                </a:solidFill>
                <a:latin typeface="Gill Sans MT"/>
              </a:rPr>
              <a:t>Association for Supervision and Curriculum Development (ASCD)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a:t>
            </a:r>
            <a:endParaRPr b="0" lang="en-US" sz="1200" spc="-1" strike="noStrike">
              <a:solidFill>
                <a:srgbClr val="000000"/>
              </a:solidFill>
              <a:latin typeface="Gill Sans MT"/>
            </a:endParaRPr>
          </a:p>
        </p:txBody>
      </p:sp>
      <p:sp>
        <p:nvSpPr>
          <p:cNvPr id="4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2E08-47B8-448E-A583-1ADD70BC8B7F}"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520" y="304920"/>
            <a:ext cx="8153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   </a:t>
            </a:r>
            <a:r>
              <a:rPr b="0" lang="en-US" sz="1800" spc="-1" strike="noStrike">
                <a:solidFill>
                  <a:srgbClr val="572314"/>
                </a:solidFill>
                <a:latin typeface="Georgia"/>
              </a:rPr>
              <a:t>Teacher Workshop </a:t>
            </a:r>
            <a:r>
              <a:rPr b="0" lang="en-US" sz="1800" spc="-1" strike="noStrike">
                <a:solidFill>
                  <a:srgbClr val="572314"/>
                </a:solidFill>
                <a:latin typeface="Georgia"/>
              </a:rPr>
              <a:t>	</a:t>
            </a:r>
            <a:r>
              <a:rPr b="0" lang="en-US" sz="1800" spc="-1" strike="noStrike">
                <a:solidFill>
                  <a:srgbClr val="572314"/>
                </a:solidFill>
                <a:latin typeface="Georgia"/>
              </a:rPr>
              <a:t>Date: ___________</a:t>
            </a:r>
            <a:br>
              <a:rPr sz="1800"/>
            </a:br>
            <a:r>
              <a:rPr b="0" lang="en-US" sz="1800" spc="-1" strike="noStrike">
                <a:solidFill>
                  <a:srgbClr val="572314"/>
                </a:solidFill>
                <a:latin typeface="Gill Sans MT"/>
              </a:rPr>
              <a:t>Balanced Assessment:</a:t>
            </a:r>
            <a:br>
              <a:rPr sz="1800"/>
            </a:br>
            <a:r>
              <a:rPr b="0" lang="en-US" sz="1800" spc="-1" strike="noStrike">
                <a:solidFill>
                  <a:srgbClr val="572314"/>
                </a:solidFill>
                <a:latin typeface="Gill Sans MT"/>
              </a:rPr>
              <a:t>A Gifted Learner Support System</a:t>
            </a:r>
            <a:br>
              <a:rPr sz="1800"/>
            </a:br>
            <a:r>
              <a:rPr b="0" lang="en-US" sz="1800" spc="-1" strike="noStrike">
                <a:solidFill>
                  <a:srgbClr val="572314"/>
                </a:solidFill>
                <a:latin typeface="Georgia"/>
              </a:rPr>
              <a:t>Name:  _________________School: __________________</a:t>
            </a:r>
            <a:r>
              <a:rPr b="0" lang="en-US" sz="2200" spc="-1" strike="noStrike">
                <a:solidFill>
                  <a:srgbClr val="572314"/>
                </a:solidFill>
                <a:latin typeface="Gill Sans MT"/>
              </a:rPr>
              <a:t>  </a:t>
            </a:r>
            <a:endParaRPr b="0" lang="en-US" sz="2200" spc="-1" strike="noStrike">
              <a:solidFill>
                <a:srgbClr val="572314"/>
              </a:solidFill>
              <a:latin typeface="Gill Sans MT"/>
            </a:endParaRPr>
          </a:p>
        </p:txBody>
      </p:sp>
      <p:graphicFrame>
        <p:nvGraphicFramePr>
          <p:cNvPr id="438" name=""/>
          <p:cNvGraphicFramePr/>
          <p:nvPr/>
        </p:nvGraphicFramePr>
        <p:xfrm>
          <a:off x="304920" y="1676520"/>
          <a:ext cx="8534160" cy="4998960"/>
        </p:xfrm>
        <a:graphic>
          <a:graphicData uri="http://schemas.openxmlformats.org/drawingml/2006/table">
            <a:tbl>
              <a:tblPr/>
              <a:tblGrid>
                <a:gridCol w="3997080"/>
                <a:gridCol w="4537080"/>
              </a:tblGrid>
              <a:tr h="570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a:t>
                      </a:r>
                      <a:endParaRPr b="0" lang="en-US" sz="1800" spc="-1" strike="noStrike">
                        <a:solidFill>
                          <a:srgbClr val="000000"/>
                        </a:solidFill>
                        <a:latin typeface="Gill Sans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Suggestions, Ideas, &amp; Questions</a:t>
                      </a: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did your participation  in today’s workshop enhance your understanding of balanced assessment?</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2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what ways might this information help to inform your work with regard to curriculum, instruction, and assessment? </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at questions do you have as a result of today’s workshop?</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academic needs of gifted learners.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        </a:t>
                      </a:r>
                      <a:r>
                        <a:rPr b="0" lang="en-US" sz="1000" spc="-1" strike="noStrike">
                          <a:solidFill>
                            <a:srgbClr val="000000"/>
                          </a:solidFill>
                          <a:latin typeface="Georgia"/>
                        </a:rPr>
                        <a:t>Strongly Disagree       Disagree           Agree       Strongly Agree</a:t>
                      </a:r>
                      <a:endParaRPr b="0" lang="en-US" sz="10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Calibri"/>
                        </a:rPr>
                        <a:t>This professional development was effective in helping me understand the social/emotional needs of gifted learners. </a:t>
                      </a:r>
                      <a:endParaRPr b="0" lang="en-US" sz="1400" spc="-1" strike="noStrike">
                        <a:solidFill>
                          <a:srgbClr val="000000"/>
                        </a:solidFill>
                        <a:latin typeface="Gill Sans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9" name="TextBox 7"/>
          <p:cNvSpPr/>
          <p:nvPr/>
        </p:nvSpPr>
        <p:spPr>
          <a:xfrm>
            <a:off x="4724280" y="5105520"/>
            <a:ext cx="3657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Gill Sans MT"/>
            </a:endParaRPr>
          </a:p>
        </p:txBody>
      </p:sp>
      <p:sp>
        <p:nvSpPr>
          <p:cNvPr id="440" name="TextBox 8"/>
          <p:cNvSpPr/>
          <p:nvPr/>
        </p:nvSpPr>
        <p:spPr>
          <a:xfrm>
            <a:off x="4724280" y="5791320"/>
            <a:ext cx="3657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1</a:t>
            </a:r>
            <a:r>
              <a:rPr b="0" lang="en-US" sz="1600" spc="-1" strike="noStrike">
                <a:solidFill>
                  <a:srgbClr val="000000"/>
                </a:solidFill>
                <a:latin typeface="Gill Sans MT"/>
              </a:rPr>
              <a:t>	</a:t>
            </a:r>
            <a:r>
              <a:rPr b="0" lang="en-US" sz="1600" spc="-1" strike="noStrike">
                <a:solidFill>
                  <a:srgbClr val="000000"/>
                </a:solidFill>
                <a:latin typeface="Gill Sans MT"/>
              </a:rPr>
              <a:t>           2</a:t>
            </a:r>
            <a:r>
              <a:rPr b="0" lang="en-US" sz="1600" spc="-1" strike="noStrike">
                <a:solidFill>
                  <a:srgbClr val="000000"/>
                </a:solidFill>
                <a:latin typeface="Gill Sans MT"/>
              </a:rPr>
              <a:t>	</a:t>
            </a:r>
            <a:r>
              <a:rPr b="0" lang="en-US" sz="1600" spc="-1" strike="noStrike">
                <a:solidFill>
                  <a:srgbClr val="000000"/>
                </a:solidFill>
                <a:latin typeface="Gill Sans MT"/>
              </a:rPr>
              <a:t>         3</a:t>
            </a:r>
            <a:r>
              <a:rPr b="0" lang="en-US" sz="1600" spc="-1" strike="noStrike">
                <a:solidFill>
                  <a:srgbClr val="000000"/>
                </a:solidFill>
                <a:latin typeface="Gill Sans MT"/>
              </a:rPr>
              <a:t>	</a:t>
            </a:r>
            <a:r>
              <a:rPr b="0" lang="en-US" sz="1600" spc="-1" strike="noStrike">
                <a:solidFill>
                  <a:srgbClr val="000000"/>
                </a:solidFill>
                <a:latin typeface="Gill Sans MT"/>
              </a:rPr>
              <a:t>       4                </a:t>
            </a:r>
            <a:endParaRPr b="0" lang="en-US" sz="16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hether I liked it or not, informative assessment always demonstrated to me that my students' knowledge, understanding, and skill were emerging along different time continuums and at different depths. It became excruciatingly clear that my brilliant teaching was not equally brilliant for everyone in my classes. In other words, informative assessment helped me solidify a need for differentiation. “ (Tomlinson,  2007)</a:t>
            </a:r>
            <a:endParaRPr b="0" lang="en-US" sz="3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77"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Office of Gifted Education</a:t>
            </a:r>
            <a:endParaRPr b="0" lang="en-US" sz="1200" spc="-1" strike="noStrike">
              <a:solidFill>
                <a:srgbClr val="000000"/>
              </a:solidFill>
              <a:latin typeface="Gill Sans MT"/>
            </a:endParaRPr>
          </a:p>
        </p:txBody>
      </p:sp>
      <p:sp>
        <p:nvSpPr>
          <p:cNvPr id="3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0154-9C2D-439F-8CDF-CE156B697764}"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ssion Goals</a:t>
            </a:r>
            <a:endParaRPr b="0" lang="en-US" sz="32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plore the importance of creating a balanced assessment system to enhance and support gifted learner benchmarks and outcomes.</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dentify the pieces of a balanced assessment system within a unit of study.</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consider the use of data in determining best practices for</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ifferentiated instruction.</a:t>
            </a:r>
            <a:endParaRPr b="0" lang="en-US" sz="3200" spc="-1" strike="noStrike">
              <a:solidFill>
                <a:srgbClr val="000000"/>
              </a:solidFill>
              <a:latin typeface="Gill Sans MT"/>
            </a:endParaRPr>
          </a:p>
        </p:txBody>
      </p:sp>
      <p:pic>
        <p:nvPicPr>
          <p:cNvPr id="381" name="Picture 2" descr="C:\Program Files\Microsoft Office\MEDIA\CAGCAT10\j0195812.wmf"/>
          <p:cNvPicPr/>
          <p:nvPr/>
        </p:nvPicPr>
        <p:blipFill>
          <a:blip r:embed="rId1"/>
          <a:stretch/>
        </p:blipFill>
        <p:spPr>
          <a:xfrm>
            <a:off x="6553080" y="5033880"/>
            <a:ext cx="1773360" cy="1824120"/>
          </a:xfrm>
          <a:prstGeom prst="rect">
            <a:avLst/>
          </a:prstGeom>
          <a:ln w="0">
            <a:noFill/>
          </a:ln>
        </p:spPr>
      </p:pic>
      <p:sp>
        <p:nvSpPr>
          <p:cNvPr id="3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D3F1-4EF3-489C-B42C-08086D29A17F}"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83"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68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s – Know , Understand, and Do</a:t>
            </a:r>
            <a:endParaRPr b="0" lang="en-US" sz="3200" spc="-1" strike="noStrike">
              <a:solidFill>
                <a:srgbClr val="572314"/>
              </a:solidFill>
              <a:latin typeface="Gill Sans MT"/>
            </a:endParaRPr>
          </a:p>
        </p:txBody>
      </p:sp>
      <p:sp>
        <p:nvSpPr>
          <p:cNvPr id="385" name=""/>
          <p:cNvSpPr txBox="1"/>
          <p:nvPr/>
        </p:nvSpPr>
        <p:spPr>
          <a:xfrm>
            <a:off x="990720" y="1066320"/>
            <a:ext cx="8153280" cy="632484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Enduring Understandings:</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system leads to high-quality teaching and deeper student understanding.</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insures that instruction meets the intellectual, social, and emotional needs of gifted learner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balanced assessment moves gifted learners towards achievement of…</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sential Question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can pre, formative, and summative assessment be used to shape the learning opportunities presented to students and promote rigor?</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what extent  does  a teacher use formative assessment  as a measure of student understanding and to plan or modify learning opportunities presented to students?</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ow will I know the degree to which my students have gained understanding of unit goals and objectives?</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37C1-74BD-4993-B014-AC5BC2680C87}"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87" name="Footer Placeholder 4"/>
          <p:cNvSpPr/>
          <p:nvPr/>
        </p:nvSpPr>
        <p:spPr>
          <a:xfrm>
            <a:off x="32767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UD – Know , Understand, and Do</a:t>
            </a:r>
            <a:endParaRPr b="0" lang="en-US" sz="3200" spc="-1" strike="noStrike">
              <a:solidFill>
                <a:srgbClr val="572314"/>
              </a:solidFill>
              <a:latin typeface="Gill Sans MT"/>
            </a:endParaRPr>
          </a:p>
        </p:txBody>
      </p:sp>
      <p:sp>
        <p:nvSpPr>
          <p:cNvPr id="38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Know:</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3 types of assessment and the value of their use</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assessment can be used to gauge learning style, prior knowledge, and interest</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mportance of using data from a balanced assessment to monitor student understanding and to refine their stage 3 sequence of learning </a:t>
            </a:r>
            <a:endParaRPr b="0" lang="en-US" sz="2600" spc="-1" strike="noStrike">
              <a:solidFill>
                <a:srgbClr val="000000"/>
              </a:solidFill>
              <a:latin typeface="Gill Sans MT"/>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Do:</a:t>
            </a:r>
            <a:endParaRPr b="0" lang="en-US" sz="2600" spc="-1" strike="noStrike">
              <a:solidFill>
                <a:srgbClr val="000000"/>
              </a:solidFill>
              <a:latin typeface="Gill Sans MT"/>
            </a:endParaRPr>
          </a:p>
          <a:p>
            <a:pPr marL="365040" indent="-255600">
              <a:lnSpc>
                <a:spcPct val="80000"/>
              </a:lnSpc>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ider ways to refine  a unit to reflect the principles of balanced assessment </a:t>
            </a:r>
            <a:endParaRPr b="0" lang="en-US" sz="2600" spc="-1" strike="noStrike">
              <a:solidFill>
                <a:srgbClr val="000000"/>
              </a:solidFill>
              <a:latin typeface="Gill Sans MT"/>
            </a:endParaRPr>
          </a:p>
        </p:txBody>
      </p:sp>
      <p:sp>
        <p:nvSpPr>
          <p:cNvPr id="3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54DE-7E65-454C-8F0C-CBA09227DBA4}"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91"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990720" y="45720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hinking Like an Assessor</a:t>
            </a:r>
            <a:endParaRPr b="0" lang="en-US" sz="3200" spc="-1" strike="noStrike">
              <a:solidFill>
                <a:srgbClr val="000000"/>
              </a:solidFill>
              <a:latin typeface="Gill Sans MT"/>
            </a:endParaRPr>
          </a:p>
        </p:txBody>
      </p:sp>
      <p:sp>
        <p:nvSpPr>
          <p:cNvPr id="393" name="TextBox 2"/>
          <p:cNvSpPr/>
          <p:nvPr/>
        </p:nvSpPr>
        <p:spPr>
          <a:xfrm>
            <a:off x="914400" y="1219320"/>
            <a:ext cx="7543800" cy="551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yourself these questions:</a:t>
            </a:r>
            <a:endParaRPr b="0" lang="en-US" sz="2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kinds of </a:t>
            </a:r>
            <a:r>
              <a:rPr b="0" lang="en-US" sz="2800" spc="-1" strike="noStrike">
                <a:solidFill>
                  <a:srgbClr val="ff0000"/>
                </a:solidFill>
                <a:latin typeface="Gill Sans MT"/>
              </a:rPr>
              <a:t>evidence</a:t>
            </a:r>
            <a:r>
              <a:rPr b="0" lang="en-US" sz="2800" spc="-1" strike="noStrike">
                <a:solidFill>
                  <a:srgbClr val="000000"/>
                </a:solidFill>
                <a:latin typeface="Gill Sans MT"/>
              </a:rPr>
              <a:t> do we need?</a:t>
            </a:r>
            <a:endParaRPr b="0" lang="en-US" sz="2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t>
            </a:r>
            <a:r>
              <a:rPr b="0" lang="en-US" sz="2800" spc="-1" strike="noStrike">
                <a:solidFill>
                  <a:srgbClr val="ff0000"/>
                </a:solidFill>
                <a:latin typeface="Gill Sans MT"/>
              </a:rPr>
              <a:t>specific characteristics </a:t>
            </a:r>
            <a:r>
              <a:rPr b="0" lang="en-US" sz="2800" spc="-1" strike="noStrike">
                <a:solidFill>
                  <a:srgbClr val="000000"/>
                </a:solidFill>
                <a:latin typeface="Gill Sans MT"/>
              </a:rPr>
              <a:t>in student responses, products, or performances should we examine?</a:t>
            </a:r>
            <a:endParaRPr b="0" lang="en-US" sz="2800" spc="-1" strike="noStrike">
              <a:solidFill>
                <a:srgbClr val="000000"/>
              </a:solidFill>
              <a:latin typeface="Gill Sans MT"/>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es the proposed evidence enable us to </a:t>
            </a:r>
            <a:r>
              <a:rPr b="0" lang="en-US" sz="2800" spc="-1" strike="noStrike">
                <a:solidFill>
                  <a:srgbClr val="ff0000"/>
                </a:solidFill>
                <a:latin typeface="Gill Sans MT"/>
              </a:rPr>
              <a:t>infer</a:t>
            </a:r>
            <a:r>
              <a:rPr b="0" lang="en-US" sz="2800" spc="-1" strike="noStrike">
                <a:solidFill>
                  <a:srgbClr val="000000"/>
                </a:solidFill>
                <a:latin typeface="Gill Sans MT"/>
              </a:rPr>
              <a:t> a student’s knowledge, skill, or understanding?</a:t>
            </a:r>
            <a:endParaRPr b="0" lang="en-US" sz="2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94" name="Picture 2" descr="C:\Documents and Settings\ankruh\Local Settings\Temporary Internet Files\Content.IE5\C70FU3WV\MCj00978910000[1].wmf"/>
          <p:cNvPicPr/>
          <p:nvPr/>
        </p:nvPicPr>
        <p:blipFill>
          <a:blip r:embed="rId1"/>
          <a:stretch/>
        </p:blipFill>
        <p:spPr>
          <a:xfrm>
            <a:off x="7315200" y="380880"/>
            <a:ext cx="1395360" cy="1463760"/>
          </a:xfrm>
          <a:prstGeom prst="rect">
            <a:avLst/>
          </a:prstGeom>
          <a:ln w="0">
            <a:noFill/>
          </a:ln>
        </p:spPr>
      </p:pic>
      <p:sp>
        <p:nvSpPr>
          <p:cNvPr id="3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D8B5-FC2A-4227-BC88-671CF889BF3A}"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396" name="Footer Placeholder 5"/>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Diagram 6" descr=""/>
          <p:cNvPicPr/>
          <p:nvPr/>
        </p:nvPicPr>
        <p:blipFill>
          <a:blip r:embed="rId1"/>
          <a:stretch/>
        </p:blipFill>
        <p:spPr>
          <a:xfrm>
            <a:off x="450720" y="530280"/>
            <a:ext cx="9236160" cy="5962680"/>
          </a:xfrm>
          <a:prstGeom prst="rect">
            <a:avLst/>
          </a:prstGeom>
          <a:ln w="0">
            <a:noFill/>
          </a:ln>
        </p:spPr>
      </p:pic>
      <p:sp>
        <p:nvSpPr>
          <p:cNvPr id="398" name="TextBox 7"/>
          <p:cNvSpPr/>
          <p:nvPr/>
        </p:nvSpPr>
        <p:spPr>
          <a:xfrm>
            <a:off x="0" y="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ieces of a Balanced Assessment System</a:t>
            </a:r>
            <a:endParaRPr b="0" lang="en-US" sz="2800" spc="-1" strike="noStrike">
              <a:solidFill>
                <a:srgbClr val="000000"/>
              </a:solidFill>
              <a:latin typeface="Gill Sans MT"/>
            </a:endParaRPr>
          </a:p>
        </p:txBody>
      </p:sp>
      <p:sp>
        <p:nvSpPr>
          <p:cNvPr id="3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B729-5787-4A87-BD68-15280316F03D}"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00" name="Footer Placeholder 4"/>
          <p:cNvSpPr/>
          <p:nvPr/>
        </p:nvSpPr>
        <p:spPr>
          <a:xfrm>
            <a:off x="3505320" y="638172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2" name="Content Placeholder 2" descr=""/>
          <p:cNvPicPr/>
          <p:nvPr/>
        </p:nvPicPr>
        <p:blipFill>
          <a:blip r:embed="rId1"/>
          <a:stretch/>
        </p:blipFill>
        <p:spPr>
          <a:xfrm>
            <a:off x="1298520" y="1139760"/>
            <a:ext cx="7712280" cy="4889520"/>
          </a:xfrm>
          <a:prstGeom prst="rect">
            <a:avLst/>
          </a:prstGeom>
          <a:ln w="0">
            <a:noFill/>
          </a:ln>
        </p:spPr>
      </p:pic>
      <p:sp>
        <p:nvSpPr>
          <p:cNvPr id="4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F823-C134-4E21-A1B3-4C6CD2D8A917}"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04"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ere’s What!</a:t>
            </a:r>
            <a:endParaRPr b="0" lang="en-US" sz="4300" spc="-1" strike="noStrike">
              <a:solidFill>
                <a:srgbClr val="572314"/>
              </a:solidFill>
              <a:latin typeface="Gill Sans MT"/>
            </a:endParaRPr>
          </a:p>
        </p:txBody>
      </p:sp>
      <p:pic>
        <p:nvPicPr>
          <p:cNvPr id="406" name="Content Placeholder 2" descr=""/>
          <p:cNvPicPr/>
          <p:nvPr/>
        </p:nvPicPr>
        <p:blipFill>
          <a:blip r:embed="rId1"/>
          <a:stretch/>
        </p:blipFill>
        <p:spPr>
          <a:xfrm>
            <a:off x="1365120" y="1316160"/>
            <a:ext cx="7577280" cy="5408640"/>
          </a:xfrm>
          <a:prstGeom prst="rect">
            <a:avLst/>
          </a:prstGeom>
          <a:ln w="0">
            <a:noFill/>
          </a:ln>
        </p:spPr>
      </p:pic>
      <p:sp>
        <p:nvSpPr>
          <p:cNvPr id="40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5FEA-2F3A-4CFF-83EF-83B894E9529F}" type="slidenum">
              <a:rPr b="1"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
        <p:nvSpPr>
          <p:cNvPr id="408" name="Footer Placeholder 4"/>
          <p:cNvSpPr/>
          <p:nvPr/>
        </p:nvSpPr>
        <p:spPr>
          <a:xfrm>
            <a:off x="3352680" y="638172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Office of Gifted Educatio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11:33Z</dcterms:created>
  <dc:creator>aaboubou</dc:creator>
  <dc:description/>
  <dc:language>en-US</dc:language>
  <cp:lastModifiedBy>lydshows</cp:lastModifiedBy>
  <dcterms:modified xsi:type="dcterms:W3CDTF">2011-05-16T13:27:08Z</dcterms:modified>
  <cp:revision>49</cp:revision>
  <dc:subject/>
  <dc:title>HS Assessment Module</dc:title>
</cp:coreProperties>
</file>